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1F57-F95C-49C8-A969-B8A19D9F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A91-BB03-4096-B22D-40F8D3F8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DAD6B-5B06-4EDC-8108-964C120C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04F25-6C87-44C7-ABCD-6BA471D2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B705B-D898-48F9-BFFC-C033B339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F49A1-DAD1-4F4D-A966-F7E69D22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8785D-00C0-401A-8DDE-C0FEEC13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0E20E-072F-4AEE-BD69-9E130056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94E86-2424-43D3-8439-F8CDFF0F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28255-3AAB-4DA9-B5DA-C5620E0F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617E7-407A-434D-AA31-83AF4690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75549-7C9B-4EA6-8C41-99B6D328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E2C-A462-499F-AF2C-3C275F68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99BFD-F01D-48B2-B7EE-1275F601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90ADF-7DB0-43C5-AD7E-B5D57CAE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ED290-CB92-4E23-BFE0-18AB6AA3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0DABF-71AE-433B-A380-2DDCA2A6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D514C-1B81-46D5-9997-186B6334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980A3-FD1C-46E7-B590-805739AF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3C508-B609-4332-BD11-BA0FABD4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BB68F-9FE5-4987-B7BB-FE87F1D7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C8EDE-1E9C-4037-982C-489E115D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DF157-8AFB-4B0E-9B3E-CB05D363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5FB2-DD0E-4299-BDC5-3036EB99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00B04-B246-43BC-BE45-E73FDA46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EA6B3-CB35-4934-B5A2-FF48914B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B70B5-E65A-4988-ACAC-CAF71AD9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59E40-5A21-4CE8-BE33-F5103C2C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D1998-73BD-487D-8F20-75A263BD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DDCFC-D29C-430B-A3BA-18DC57D1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D779D-CAF4-47C7-A3CB-6A5742A0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6B5FF-E8E3-4CFF-ABE9-A0FF6052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8EB21-6DF9-41C4-9744-4A617B05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79558-784B-4455-8412-52E1DDB1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34BD-FA3E-4D13-AEAD-6D0663B6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E0F42-90C1-4768-B835-4DC3EC51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A5799-E242-4BC5-BC6E-9FD99615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D9B37-CAB2-4986-AAB1-18ACE80D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B0084-C6EB-4767-BFA1-C7588693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FE974-5CD5-49D1-9422-B33B004F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58654-57FA-4EFD-822D-64BE23E2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43084-F687-4C5A-B11E-46D181C7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A3CC4-D843-4A85-BE55-EE11CF7D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286D9-3941-453E-94A9-411889AA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6B884-3871-47A2-BD19-B8196443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D22E-EC9E-49E6-8019-1B224FBD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D9F23-F9D9-4EB5-B8A1-14A80395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93199-C3F6-483F-8D7A-59FD8751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7751B-7E86-42CC-AF08-1813DF68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F9CB8-7BA2-4EDA-BAF7-7B4E5DBD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F0BDE-12B5-4E8F-BDE8-932FD31F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CDD01-8788-4CB6-B075-D4974E41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14F124-4859-4E80-ADCF-1FF6F97B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FC5D86-8965-46E4-A9F2-83647D39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90E358-52A6-41B9-A6EB-3B330701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E6782-9B47-48EF-95A0-9F755158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C794-17D2-4861-9108-91D78B7B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56F0C-6734-412C-96D0-56292CF3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F832C-F11C-49A5-BC98-EC68CBF8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0FE80C-78B3-4C19-AF9D-82B25A7F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B32D6-9CFB-416F-998D-C4CEC276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BAB99-7CA7-4958-A611-44D0DFAC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2F8A16-FFA1-4ED5-8DD5-396A91B6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5E1FE-C8AD-4C14-9ADA-693F2AC1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B7E775-70C5-4EEF-8A61-ECDC0B26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115B48-8BB5-452E-A339-D5D1B101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D803FC-846D-4E12-8B94-4CC612CD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380F-A89D-47E0-9A91-E965E8F3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864368-2C7E-4E9D-8E30-8B5D5D7B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2AF914-FDE6-4831-BEF2-D05D912F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5FB6ED-8B07-4A79-8441-7FD92D6F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1F93BA-8379-4D84-9C08-57974CD9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066F16-E768-4966-AEAA-2C1403F8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B23882-4AFC-48FF-B086-E0AD4EA4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962B61-73C2-45C1-B611-0AFC800F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5BE57-888E-4077-BFBD-DFEECF6D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8AE820-5228-48FE-85DD-EE1D9AC1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5380BB-2743-4DF1-9924-C40D07BE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8ABE-BFA0-4EA3-A161-056BA0B9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F255A4-4A60-4E6A-BE50-2ACC5AFA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46909F-0760-482A-B960-5AC9EFD0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18DAED-D146-489C-B3E3-AAD9E705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CA8EEA-AA89-40DC-9B39-D269053F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75E0E5-1672-4F94-A198-1F293362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5BE48-663F-4074-A6C2-C5714A90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993791-3878-464B-BD42-3D2D9F82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EE2AD6-125F-4D3C-BC33-CAFDAC62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FCCF9A-8269-452E-A403-1D833279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2F6D2F-0AA6-4D98-A2C0-7DA53F5E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0774-AD6F-4447-B74A-D651978A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BE8663-DB70-4062-894E-C3D2EEF2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9AE389-0875-45F2-928A-ABFA1851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C609D0-20CF-4528-89E4-F6DDC7B6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3B536E-E195-4E26-8014-C39D6D0E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34D48C-365D-49F6-8E7B-C6F4EA8F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4CEEDD-1ECC-455B-83FC-3EFD59A6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8E3D4-0642-432C-8D8D-9C3277CC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29CF26-74A6-4E4F-9B23-57CB88A5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97A5ED-C52E-45DB-A4F8-A2263EA6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94B710-891F-45E3-991E-F3EB0BA9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8AE8-17A4-494C-9E4C-2530A5E0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DB823C-44BC-4781-A41A-C471328E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E4A8A6-46B3-4735-A5E6-5A197B54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8F7D9C-4C22-41E3-8D86-42AB785A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E197D4-D451-41BF-B7E6-BEB04BF4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C7E96B-C0B3-4F28-B911-5753752E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E4A4C6-B36E-4F07-9E4D-3CFAA6FC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CC3E4D-C167-4A37-8305-B5E6EBBC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BA6943-1C59-4731-9790-B881F27B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077A12-1C3C-43BA-BAFB-8724A65B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DB5738-EF5F-46ED-BB55-9DD3BEA4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F02-4756-4D7E-8E9F-6B4484F8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698A-A895-429D-A487-1311C2CF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60B062-78A1-44B3-8CF1-8F0E0819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A76014-C2CD-41E6-BF29-7A5F1854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D1003E-AA81-42CF-A448-C79C74D0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4A17A8-4F92-4838-94A3-54E08D13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2E4835-2873-4BE8-A78D-ECE4FDBE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A17C00-F1FC-4DCF-B844-ED7C9B78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B8F6A9-39B1-4284-B937-8B1E53DA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1F33ED-EFE0-4026-8848-87780C88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D2BE41-062D-4159-A277-4D172E18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88F24A-19CF-40A9-957B-72C63550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5F16-120B-44A4-91D4-B1385D84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4A0F7B-8B77-4FBB-8400-9EA49C73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30FFAA-1F8D-4921-99DE-A48BA355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1D5315-6736-4037-B45C-EFBF18FD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F122C5-AAD0-4F89-B618-2360DB39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F7AD05-F742-4E63-8706-0FF91739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E8475C-F3AA-4DDF-BDA5-B08A607F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39649A-923A-43BE-AA4D-4419C86D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FEEA-A224-4D4C-89D1-A1C8C9FB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44C9-6FCB-4960-ACF9-6190B187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6C80-48B6-4A59-915D-6F0F1D47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725D6-B069-44A7-9772-6CC68AB5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496C7-6528-4D2B-8C55-E2F06910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65B61-78A5-4987-AD15-9A107E97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8201E-6520-4A82-90B7-92C4E540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3F1F6-97CE-45E9-97F2-7FA08A1F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4C2C-2C93-4A88-88A7-E058EF1C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FB19B-3F18-4D51-B01B-48688146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2A0E3-D12C-4004-BF98-825AC760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5954F-020C-472B-B138-868B60DC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2A809-7D2E-4DFA-BD4C-7746807A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5559F-EAF1-456C-9BBC-D1E4C456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0759E-1BD8-49B1-95AA-9E0E9CCE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46471-C60C-4ADB-A586-9CC1D220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BB3E9-1C9D-4069-A62D-31AAC209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F5D98-1952-4E34-86BA-098E45A1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7A69B-32AD-438B-B341-08A2E2B5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DE2-406F-4455-8B96-D6B259B7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08C07-A3B4-453E-B1F8-2C7A9F55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3C733-DBEC-405C-8F54-C4F9375B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2406E-B2F9-459B-8230-997EBDA9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8E535-57CE-4B22-BDD3-DA154129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FD751-DB44-4388-A834-1BFAD949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7816B-954B-48B4-BF43-AAA2CCF7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D287B-0ADF-4D15-B26E-176814C7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755E5-5666-4A00-8DDA-D2AF73D8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57552-6EB7-4A9D-9C70-93E201C8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29472-BB3A-4609-A8D9-3B48E3DA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084-AE8C-41B8-96B2-D573E25F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DA732-907B-4FE8-89E5-89DC56A0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9F470-D7E6-4809-84C8-83D770CA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5B421-86CD-4774-879F-5460EB10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A3696-5C89-4A35-BF22-0A57F751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3607E-01CC-4FF7-8DA1-B53AA0C9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5B33A-F178-41F0-8A75-4C1C56E6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B81EC-7C00-4B58-9CF7-A075EFCF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C8C21-6592-4382-8B67-EC419047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DF7B4-EB89-4AEB-970D-41CC131C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5D709-18FE-479A-86AC-2CD2D3A8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B9B-8932-4F3B-B384-8863F7F2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D8E64-AF6F-4235-96A7-A482CC31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B2A7A-8A37-4E92-9382-C74A2C02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5CC1E-F544-4618-8BE2-F8C7FCAE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B9CC0-E20C-49C0-9885-E2C17465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F718C-2140-4B65-9551-3EB317DA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A75C5-F641-42F8-9012-4122C0AB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52BFF-0EE6-4587-A6D2-E5EA7093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5DFF9-ED5F-41D2-8EC8-C55713CB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8E072-B616-4D2A-B284-CB045966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3981C-8BA1-4FAB-B9FE-CB9559B9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0F92-23AE-483A-8A10-82030F3A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FBD7F-0EEE-4378-9B34-214097BD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D131B-3256-4D86-BEB2-D7AEFF4B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8F28B-BB1E-4CD6-B38D-CF00170F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B6E50-DE8E-48C2-AC31-304F1134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E71BE-228D-42C4-90D3-0EDE3760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BCA24-7ED9-456E-B8BC-5DBC9DCD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24FD6-0EFE-4C94-9827-FE3A37D4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E3E36-BA73-4402-BD95-04C3A8A6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3F835-0610-4F92-968E-E362304B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E483D-A866-479A-85B4-40DD2D0F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F55-78B5-48E5-874C-E57B35A7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DB1C7-F0A2-487A-98F3-70139926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52FAA-1A23-4E24-896A-0B4DD52F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90B06-F9B5-45AA-B4C3-7A7FDCA8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E67CE-CBC0-4EA2-A3D9-C9A3F0EE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1C574-5BA7-4F31-8133-4320679A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CE46E-8F63-4B8A-BFA1-84C6E34C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5879A-29F3-4F1D-B17C-CEC7B627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3EA50-D784-49AC-884E-DE30EE5D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7D8E3-193C-4451-A391-FD0D375C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EF532-F2AD-4DA9-8694-CCF8D92A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F557-554B-468F-8929-D66B3E92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B4B93-92F1-43F6-ABC9-D03B9388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35A04-1767-4224-B6DE-CB6CDEBE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7C258-0A3F-4117-A7C6-DFFBDCA6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7303C-F4E1-4DA0-A038-E6D70251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D8AA6-9B87-46C0-9C08-3E812190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58E4E-1AC6-46D7-BDC8-0C1A6C66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97F96-3F64-40E7-A70B-B4A0E69A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34670-02A5-4BD8-ACA6-F309F1A2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EC0D0-87D6-4BAD-9AAE-0009E7AF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F616E-2342-498F-9729-F366DBA7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047D4-39B5-4B25-874C-6E55A1BC92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B2B06-8372-45D6-BDF8-025F7135A6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D0C54-2A81-4478-B34D-4913575029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E71D8-670B-42C0-AFE2-BBBD56B9E0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2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CB05B-C6A9-4151-A543-270FCCB674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27212-F0E5-49E7-85D2-1CBF762583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71723-CDD5-4FE9-998C-7EEB02984B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C8852-19C9-467A-9313-A031F3FCE1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AD916-2507-4FF9-BBC0-F9BDAC78EB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F959E-6E87-4C2D-A395-B7978AD1B1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83E93-DF22-4E49-B740-109B01693F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E2E6B-6F66-4D32-8C9B-7C3B8EC702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619ED-DA29-4FD5-8696-FCFECB881B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1D442-D66F-4C82-A1BF-0768A9979B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AAC72-EBB4-40D7-8EDB-F9C49F27B2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04EA5-8603-464E-B12D-C2C66F9FEC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9A31F-2FF2-4259-9B6E-46C8BA3E01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B37CF-8A29-4101-8BBA-41C4D7A1DD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50680" y="1299960"/>
            <a:ext cx="8690040" cy="25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Tw Cen MT"/>
              </a:rPr>
              <a:t>AVALIAÇÃO QUANTITATIVA DE POPULAÇÕES MICROBIANAS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1750680" y="3886200"/>
            <a:ext cx="8690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d0d0d"/>
                </a:solidFill>
                <a:latin typeface="Tw Cen MT"/>
              </a:rPr>
              <a:t>MÉTODO DAS PLACA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7" name="Imagem 3" descr=""/>
          <p:cNvPicPr/>
          <p:nvPr/>
        </p:nvPicPr>
        <p:blipFill>
          <a:blip r:embed="rId1"/>
          <a:stretch/>
        </p:blipFill>
        <p:spPr>
          <a:xfrm>
            <a:off x="10496520" y="0"/>
            <a:ext cx="1695600" cy="1895400"/>
          </a:xfrm>
          <a:prstGeom prst="rect">
            <a:avLst/>
          </a:prstGeom>
          <a:ln w="0">
            <a:noFill/>
          </a:ln>
        </p:spPr>
      </p:pic>
      <p:sp>
        <p:nvSpPr>
          <p:cNvPr id="778" name="CaixaDeTexto 4"/>
          <p:cNvSpPr/>
          <p:nvPr/>
        </p:nvSpPr>
        <p:spPr>
          <a:xfrm>
            <a:off x="8319960" y="5241960"/>
            <a:ext cx="38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w Cen MT"/>
              </a:rPr>
              <a:t>Trabalho realizado por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w Cen MT"/>
              </a:rPr>
              <a:t>César Santos nº3391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w Cen MT"/>
              </a:rPr>
              <a:t>Joana Pereira nº3398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w Cen MT"/>
              </a:rPr>
              <a:t>Susana Ferreira nº3390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w Cen MT"/>
              </a:rPr>
              <a:t>INTRODUÇÃO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914040" y="2367000"/>
            <a:ext cx="103633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w Cen MT"/>
              </a:rPr>
              <a:t>O MÉTODO DAS PLACAS TEM UMA GENERALIZADA APLICAÇÃO NAS INDÚSTRIAS AGROALIMENTARES, POIS PERMITE, COM RESULTADOS BASTANTE FIÁVEIS, A DETERMINAÇÃO DA CARGA MICROBIANA DOS ALIMENTOS, QUER SÓLIDOS, QUER LÍQUIDOS, DANDO INDICAÇÕES MUITO PRECISAS ACERCA DA SUA QUALIDADE MICROBIOLÓGICA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w Cen MT"/>
              </a:rPr>
              <a:t>FUNDAMENTO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w Cen MT"/>
              </a:rPr>
              <a:t>ESTE MÉTODO BASEIA-SE NO PRINCÍPIO DE QUE CADA MICRORGANISMO VIÁVEL INOCULADO, EM DETERMINADAS CONDIÇÕES, DARÁ, NO FINAL DO PERÍODO DE INCUBAÇÃO, UMA COLÓNIA ISOLADA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w Cen MT"/>
              </a:rPr>
              <a:t>MATERIAL UTILIZADO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4" name="Marcador de Posição de Conteúdo 2" descr=""/>
          <p:cNvPicPr/>
          <p:nvPr/>
        </p:nvPicPr>
        <p:blipFill>
          <a:blip r:embed="rId1"/>
          <a:stretch/>
        </p:blipFill>
        <p:spPr>
          <a:xfrm>
            <a:off x="858960" y="2365200"/>
            <a:ext cx="1041876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w Cen MT"/>
              </a:rPr>
              <a:t>METODOLOGI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914040" y="2367000"/>
            <a:ext cx="1036332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 u="sng">
                <a:solidFill>
                  <a:srgbClr val="000000"/>
                </a:solidFill>
                <a:uFillTx/>
                <a:latin typeface="Tw Cen MT"/>
                <a:ea typeface="Calibri"/>
              </a:rPr>
              <a:t>PREPARAÇÃO DA SOLUÇÃO DE RINGE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Tw Cen MT"/>
                <a:ea typeface="Calibri"/>
              </a:rPr>
              <a:t>NUM COPO DE 1L CONTENDO 500ML DE ÁGUA DESTILADA, ADICIONA-SE UMA DRAGEIA E HOMOGENEÍZA-SE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Tw Cen MT"/>
                <a:ea typeface="Calibri"/>
              </a:rPr>
              <a:t>DESTA SOLUÇÃO, 180ML SÃO DIVIDIDOS EM DOIS FRASCOS, E OS RESTANTES 320ML SÃO DISTRIBUÍDOS POR 35 TUBOS DE ENSAIO.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Tw Cen MT"/>
                <a:ea typeface="Calibri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 u="sng">
                <a:solidFill>
                  <a:srgbClr val="000000"/>
                </a:solidFill>
                <a:uFillTx/>
                <a:latin typeface="Tw Cen MT"/>
                <a:ea typeface="Calibri"/>
              </a:rPr>
              <a:t>PREPARAÇÃO DA SUSPENSÃO MÃE PARA ALIMENTOS SÓLIDOS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Tw Cen MT"/>
                <a:ea typeface="Calibri"/>
              </a:rPr>
              <a:t>DESTINA-SE A FIXAR O PROCESSO DE SUSPENDER E HOMOGENEIZAR OS ALIMENTOS SÓLIDOS NUM DILUIDOR, COM VISTA A LIBERTAR, NUMA FASE LÍQUIDA, OS MICRORGANISMOS QUE AQUELES CONTÊM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952200" y="422280"/>
            <a:ext cx="10363320" cy="59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w Cen MT"/>
              </a:rPr>
              <a:t>COMEÇA POR SE RECOLHER CERCA DE 10G DA AMOSTRA QUE, NO NOSSO CASO É O FIAMBR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w Cen MT"/>
              </a:rPr>
              <a:t>INTRODUZEM-SE, NUM BALÃO OU NUM SACO DE PLÁSTICO ESTERILIZADOS CONTENDO 90 ML DE SOLUÇÃO DILUIDORA ESTÉRIL. HOMOGENEÍZA-SE MUITO BEM, MECANICAMENTE NO STOMACKER, DURANTE 1 A 2 MINUTOS, DE FORMA A OBTER UMA SUSPENSÃO HOMOGÉNEA E CAPAZ DE SER PIPETAD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w Cen MT"/>
              </a:rPr>
              <a:t>A PARTIR DESTA SOLUÇÃO-MÃE VÃO REALIZAR-SE AS RESTANTES DILUIÇÕES, PARA TUBOS DE ENSAIO CONTENDO SOLUÇÃO DILUIDORA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1T17:23:16Z</dcterms:created>
  <dc:creator>César Santos</dc:creator>
  <dc:description/>
  <dc:language>en-US</dc:language>
  <cp:lastModifiedBy>César Santos</cp:lastModifiedBy>
  <dcterms:modified xsi:type="dcterms:W3CDTF">2019-04-01T18:44:38Z</dcterms:modified>
  <cp:revision>9</cp:revision>
  <dc:subject/>
  <dc:title>Avaliação Quantitativa de Populações Microbianas</dc:title>
</cp:coreProperties>
</file>